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3B7-D0E5-470C-8E68-D906F4F7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244-7BCC-4A41-8E13-CD8F73E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2B9-138D-4771-A654-C3974E58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1BD-344C-4118-B616-B61DE967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4AE3-A059-4BAB-9D1C-F70D0B1E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6CB2-7869-4E8F-86FF-A9F5C240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1059-4139-4F67-9669-4400BD66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CBF2-600E-420B-8547-4939C520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BAFE-AFD2-4EFA-9CA7-88B6ABCF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64EF-FAB1-4050-839B-250B2ED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C445-DD99-428C-A169-168A011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BCA-F2E7-418D-9296-8985D762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F1C7-91E6-45D7-8800-3352587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92A1-15A3-4733-A39E-5ACEF45F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DB8E-19CC-472C-8CA5-84DB3C9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1818-574F-4037-AE79-DABABA20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D95-D740-4350-8DF0-A00AFAEB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A10-371A-4FEC-ACE8-E2BFF571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7EC-8D7B-400A-941A-20AFB7C8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461-81CB-4025-9F13-3A0FBF52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4E2-CAB0-4B74-8506-18C0A322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276-7348-480A-86E3-DA0661CC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1A7-2C2B-43B3-BC71-AFA8DE70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693-42A4-47EE-97EA-35AAD557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B99-DD63-4479-BCB6-AF89C72CA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D7A6-84EC-49F2-A320-D6A30D39C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otosight.ru/photo.php?photoid=844036&amp;ref=author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ignews.com/aimages/09_06/040906_33824_00146_2.jpg&amp;imgrefurl=http://www.mignews.com/news/Science/world/040906_33824_00146.html&amp;h=260&amp;w=288&amp;sz=56&amp;hl=ru&amp;start=32&amp;tbnid=i9sgO1NSmHRh1M:&amp;tbnh=99&amp;tbnw=110&amp;prev=/images%3Fq%3D%2B%25D1%2584%25D0%25BE%25D1%2582%25D0%25BE%25D1%2581%25D0%25B8%25D0%25BD%25D1%2582%25D0%25B5%25D0%25B7%26start%3D20%26ndsp%3D20%26svnum%3D10%26hl%3Dru%26lr%3D%26sa%3D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darwin.museum.ru/dino/be_dino/img/8d.jpg&amp;imgrefurl=http://www.darwin.museum.ru/dino/be_dino/zeml_foto.htm&amp;h=300&amp;w=500&amp;sz=35&amp;hl=ru&amp;start=12&amp;tbnid=UorJoZ5Qtu2wlM:&amp;tbnh=78&amp;tbnw=130&amp;prev=/images%3Fq%3D%25D0%25A4%25D0%25BE%25D1%2582%25D0%25BE%25D1%2581%25D0%25B8%25D0%25BD%25D1%2582%25D0%25B5%25D0%25B7%26svnum%3D10%26hl%3Dru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massmedia.msu.ru/newspaper/newspaper/4140/images/13.jpg&amp;imgrefurl=http://massmedia.msu.ru/newspaper/newspaper/4140/all/dialog.htm&amp;h=188&amp;w=150&amp;sz=26&amp;hl=ru&amp;start=4&amp;tbnid=jnRUgzkIGBD47M:&amp;tbnh=102&amp;tbnw=81&amp;prev=/images%3Fq%3D%25D0%25A2%25D0%25B8%25D0%25BC%25D0%25B8%25D1%2580%25D1%258F%25D0%25B7%25D0%25B5%25D0%25B2%26svnum%3D10%26hl%3Dru%26lr%3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alhimik.ru/teleclass/pictgreat/priestleyN.jpg&amp;imgrefurl=http://www.alhimik.ru/teleclass/pril/pristley.shtml&amp;h=200&amp;w=148&amp;sz=10&amp;hl=ru&amp;start=4&amp;tbnid=fiLPR_-jr4jiTM:&amp;tbnh=104&amp;tbnw=77&amp;prev=/images%3Fq%3D%25D0%259F%25D1%2580%25D0%25B8%25D1%2581%25D1%2582%25D0%25BB%25D0%25B8%26svnum%3D10%26hl%3Dru%26lr%3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massmedia.msu.ru/newspaper/newspaper/4140/images/13.jpg&amp;imgrefurl=http://massmedia.msu.ru/newspaper/newspaper/4140/all/dialog.htm&amp;h=188&amp;w=150&amp;sz=26&amp;hl=ru&amp;start=4&amp;tbnid=jnRUgzkIGBD47M:&amp;tbnh=102&amp;tbnw=81&amp;prev=/images%3Fq%3D%25D0%25A2%25D0%25B8%25D0%25BC%25D0%25B8%25D1%2580%25D1%258F%25D0%25B7%25D0%25B5%25D0%25B2%26svnum%3D10%26hl%3Dru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elementy.ru/images/eltbio/calvin_melvin_200.jpg&amp;imgrefurl=http://elementy.ru/biography/162659&amp;h=251&amp;w=200&amp;sz=45&amp;hl=ru&amp;start=1&amp;tbnid=BURvFgJ3puPNxM:&amp;tbnh=111&amp;tbnw=88&amp;prev=/images%3Fq%3D%25D0%259C%25D0%25B5%25D0%25BB%25D0%25B2%25D0%25B8%25D0%25BD%2B%25D0%259A%25D0%25B0%25D0%25BB%25D0%25B2%25D0%25B8%25D0%25BD%2B%26svnum%3D10%26hl%3Dru%26lr%3D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Фотосинтез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Photosynthesis )  - От греческого Photos - свет + Synthesis - соедин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769080" cy="4554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цесс фотосинтеза  -  основа питания всех живых существ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н снабжает человеч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пливом (древесина, уголь, нефт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локнами (целлюлоза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счисленными полезным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ми соединени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Физико -химические основы фотосинтеза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Молекула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хлорофилл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глощает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вант свет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переходит в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озбужденное состоя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характеризующееся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электронной структуро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 повышенной энергией и способностью легко отдавать электро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5400" y="181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28-1" descr="Фотосинтез – химическое  явление"/>
          <p:cNvPicPr/>
          <p:nvPr/>
        </p:nvPicPr>
        <p:blipFill>
          <a:blip r:embed="rId1"/>
          <a:stretch/>
        </p:blipFill>
        <p:spPr>
          <a:xfrm>
            <a:off x="539640" y="549360"/>
            <a:ext cx="14288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Электрон, как по ступеням, перемещается п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цепочке сложных органических соединен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встроенных в мембраны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лоропла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Эти соединения отличаются друг от друга своим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кислительно-восстановительными потенциал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которые к концу цепи повышаются. Перемещаясь с одной ступени на другую, электрон теряет энергию, которая используется для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интеза АТФ (Аденозинтрифосфорная кислота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712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67120" y="27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v_84403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013360"/>
            <a:ext cx="2519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ративший свою энергию электрон возвращается к хлорофиллу. Новая порция световой энергии вновь возбуждает молекулу хлорофилла. Электрон снова проходит по тому же пути, расходуя свою энергию на образование новых молекул АТФ, и весь цикл повторя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404640"/>
            <a:ext cx="273528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ыв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основе фотосинтеза лежит превращение электромагнитной энергии света в химическую энерги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та энергия дает возможность превращать диоксид углерода в углеводы и другие органические соединения с выделением кислород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08360" y="5300640"/>
            <a:ext cx="1657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2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bb5f03"/>
                </a:solidFill>
                <a:latin typeface="Times New Roman"/>
              </a:rPr>
              <a:t>Спасибо за внимание!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021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 класс    Зайцева Ан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3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33800" cy="2419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Фотосинте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–это процесс при котором из неорганических веществ в хлоропластах на свету образуются органические ве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СТОРИЯ ИССЛЕДОВАНИЯ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ОТОСИНТЕЗ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133720"/>
            <a:ext cx="50626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770 год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жозеф Пристли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нглийский химик и филосо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вым обнаружил, что растения выделяют кислоро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034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                   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                        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1817 год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ранцузские химики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ьер Жозеф Пелать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Жозеф Бьенеме Каванту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выделили хлорофилл  - зеленый пигмен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2680" y="125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hlplast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9243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редина 19 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ссийский ученый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имент Аркадьевич Тимирязе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189000"/>
            <a:ext cx="1598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941 г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лвин Калв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американский биохимик показал, что первичный процесс фотосинтеза заключается в фотолизе молекул воды, в результате чего образуются кислород, выделяющийся в атмосферу, и водород, идущий на восстановление диоксида углерода до органически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исследования в области ассимиляции диоксида углерода в растениях Калвин был удостоен в 196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белевской прем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 хим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1252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Химическая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ормула фотосинтез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6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 =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+ 6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504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0850_001" descr="СТРОЕНИЕ ЛИСТА"/>
          <p:cNvPicPr/>
          <p:nvPr/>
        </p:nvPicPr>
        <p:blipFill>
          <a:blip r:embed="rId1"/>
          <a:stretch/>
        </p:blipFill>
        <p:spPr>
          <a:xfrm>
            <a:off x="1042920" y="1844640"/>
            <a:ext cx="6201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фазы фотосинтеза: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световая и темновая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 светозависимой части фотосинте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световой реакции) происходит расщепление молекул воды с образованием протонов, электронов и атома кисло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ующие процессы протекают в темнот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(темновая реакция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лекислый газ связывается с пятиуглеродным сахаром при помощи ферментов, и идёт образование глюкоз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лная последовательность превращения диоксида углерода в органические соединения называется циклом Калв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7:25:45Z</dcterms:created>
  <dc:creator>Unknown</dc:creator>
  <dc:description/>
  <dc:language>en-US</dc:language>
  <cp:lastModifiedBy>GEG</cp:lastModifiedBy>
  <dcterms:modified xsi:type="dcterms:W3CDTF">2007-07-05T18:56:34Z</dcterms:modified>
  <cp:revision>30</cp:revision>
  <dc:subject/>
  <dc:title>Фотосинтез </dc:title>
</cp:coreProperties>
</file>